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1AB-7FB8-43F6-8480-8024FCD0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BDB-A6FB-4DFC-B3DA-40FB2B43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582-30AF-4607-9A20-4D2CFBF3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679-F92C-42A9-A19B-3C8D5C29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91441-A6BF-4A42-8B12-D01F62CD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FE39B-4099-4F54-B576-5AFEB7C3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51DE8-716E-42EC-8BA8-9EAA43F3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C8DAE-8683-4AE0-9756-DD7B0B56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AAFAD-923E-41B5-9EA7-2CC5815D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9A8A4-85D9-4502-8516-3124C4C3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B9903-E775-4EB1-9147-627E6E0F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5655-C9FE-4843-84C6-65E440E1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37A62-3CFB-4FF7-B032-69283C95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99850-EDDB-4BAB-83ED-0D3DFECD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012F2-9B72-48ED-940B-CBDAEED9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5B0A9-F0BE-4D3B-AAE0-15563F8F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403D9-115E-44E2-8AA0-9A42EDBB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93C-F364-444E-8AD8-0C1379C6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96A-45ED-4697-B34E-DEEDAA5C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D46-267B-4631-8E21-488A85B9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781-D0AF-4060-B177-6D58CCDD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5172-6129-4445-87D4-2641B1DF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0DF-63FB-4592-B6CB-908B7DB2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170-F152-488E-B246-F7941424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1BD1-C663-4EEC-9DEB-3AABBD6C4F3D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B6A9-9472-4EC7-BB63-4B82E09DE21D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ed03d7"/>
                </a:solidFill>
                <a:latin typeface="Arial"/>
              </a:rPr>
              <a:t>Jogi szabályozá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d03d7"/>
                </a:solidFill>
                <a:latin typeface="Arial"/>
              </a:rPr>
              <a:t>Ítélet Olaszország ell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1087200" cy="1089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547640" y="1413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Európa Bíróság (ECJ) C-238/99. 20. po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213372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2349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Arial"/>
              </a:rPr>
              <a:t>A letelepedési és munkavállalási jog csak akkor korlátozható, ha a tevékenység hatósági tevékenység vagy azzal közvetlenül összefüg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71640" y="39337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Arial"/>
              </a:rPr>
              <a:t>A vállalkozások által nyújtott védelmi és biztonsági szolgáltatások sem közvetlenül, sem közvetve nem függenek össze a hatósági tevékenységg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d03d7"/>
                </a:solidFill>
                <a:latin typeface="Arial"/>
              </a:rPr>
              <a:t>A szolgáltatások nyújtásának szabadság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1349280" cy="14464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835280" y="2781360"/>
            <a:ext cx="73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Arial"/>
              </a:rPr>
              <a:t>Az alábbiakban megállapított rendelkezéseknek megfelelően tilos a Közösségen belüli szolgáltatásnyújtás szabadságára vonatkozó minden korlátozás a tagállamok olyan állampolgárai tekintetében, akik a Közösségnek nem abban a tagállamában letelepedettek, mint a szolgáltatást igénybe vevő szemé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177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9900"/>
                </a:solidFill>
                <a:latin typeface="Times New Roman"/>
              </a:rPr>
              <a:t>49. ci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d03d7"/>
                </a:solidFill>
                <a:latin typeface="Arial"/>
              </a:rPr>
              <a:t>Holland ítélet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35280" y="1413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C-189/03. Hollandia – 2004. október 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1212840" cy="1057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692360" y="198900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A bíróság kinyilvánítja, hogy a törvény azon szabályai, amelyek megkövetelik, h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314172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hogy a vállalkozásoknak, amelyek szolgáltatást kívánnak nyújtani Hollandiában, és azok vezetőinek engedélyt kell kérni, anélkül, hogy figyelembe vennék, hogy a külföldi szolgáltató ennek a kötelezettségének már eleget abban a tagállamban, ahol a vállalkozást alapította, és az engedélyért díjat kell fizetni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d03d7"/>
                </a:solidFill>
                <a:latin typeface="Arial"/>
              </a:rPr>
              <a:t>Holland ítélet </a:t>
            </a:r>
            <a:r>
              <a:rPr b="0" lang="hu-HU" sz="4800" spc="-1" strike="noStrike">
                <a:solidFill>
                  <a:srgbClr val="ed03d7"/>
                </a:solidFill>
                <a:latin typeface="Arial"/>
              </a:rPr>
              <a:t>(folytatás)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413000"/>
            <a:ext cx="820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és a cég azon dolgozóinak, akik az alapítás szerinti tagállam állampolgárai, a holland hatóságok által kiállított azonosító igazolvánnyal kell rendelkezniük, továbbá, hogy nem veszi figyelembe a határon átnyúló szolgáltatást nyújtó szolgáltatóknál azt az ellenőrzést, amelyet az eredeti országban a szóban-forgó követelmények tekintetében elvégezte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43657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Holland Királyság elmulasztotta, hogy eleget tegyen az EC (-</a:t>
            </a:r>
            <a:r>
              <a:rPr b="1" i="1" lang="hu-HU" sz="2400" spc="-1" strike="noStrike">
                <a:solidFill>
                  <a:srgbClr val="00ff00"/>
                </a:solidFill>
                <a:latin typeface="Times New Roman"/>
              </a:rPr>
              <a:t>Európai Alkotmány) </a:t>
            </a: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49. cikkében meghatározott kötelezettségén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d03d7"/>
                </a:solidFill>
                <a:latin typeface="Arial"/>
              </a:rPr>
              <a:t>Service </a:t>
            </a:r>
            <a:r>
              <a:rPr b="1" lang="en-GB" sz="4400" spc="-1" strike="noStrike">
                <a:solidFill>
                  <a:srgbClr val="ed03d7"/>
                </a:solidFill>
                <a:latin typeface="Arial"/>
              </a:rPr>
              <a:t>Direc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1846440"/>
            <a:ext cx="777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2006/123/EC -</a:t>
            </a:r>
            <a:r>
              <a:rPr b="1" lang="en" sz="2400" spc="-1" strike="noStrike">
                <a:solidFill>
                  <a:srgbClr val="00ff00"/>
                </a:solidFill>
                <a:latin typeface="Times New Roman"/>
              </a:rPr>
              <a:t>Directive on services in the internal market</a:t>
            </a:r>
            <a:r>
              <a:rPr b="0" lang="hu-HU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00ff00"/>
                </a:solidFill>
                <a:latin typeface="Times New Roman"/>
              </a:rPr>
              <a:t>                        </a:t>
            </a:r>
            <a:r>
              <a:rPr b="0" lang="hu-HU" sz="2400" spc="-1" strike="noStrike">
                <a:solidFill>
                  <a:srgbClr val="ff9900"/>
                </a:solidFill>
                <a:latin typeface="Times New Roman"/>
              </a:rPr>
              <a:t>(Szolgáltatások nyújtása az EU belső piacán)</a:t>
            </a:r>
            <a:br>
              <a:rPr sz="2400"/>
            </a:br>
            <a:r>
              <a:rPr b="0" lang="hu-HU" sz="2400" spc="-1" strike="noStrike">
                <a:solidFill>
                  <a:srgbClr val="ff9900"/>
                </a:solidFill>
                <a:latin typeface="Times New Roman"/>
              </a:rPr>
              <a:t>                         </a:t>
            </a:r>
            <a:r>
              <a:rPr b="0" lang="hu-HU" sz="2400" spc="-1" strike="noStrike">
                <a:solidFill>
                  <a:srgbClr val="00ff00"/>
                </a:solidFill>
                <a:latin typeface="Times New Roman"/>
              </a:rPr>
              <a:t>Elfogadva: 2006. december 12</a:t>
            </a:r>
            <a:br>
              <a:rPr sz="2400"/>
            </a:br>
            <a:r>
              <a:rPr b="0" lang="hu-HU" sz="2400" spc="-1" strike="noStrike">
                <a:solidFill>
                  <a:srgbClr val="00ff00"/>
                </a:solidFill>
                <a:latin typeface="Times New Roman"/>
              </a:rPr>
              <a:t>                          </a:t>
            </a:r>
            <a:br>
              <a:rPr sz="2400"/>
            </a:br>
            <a:r>
              <a:rPr b="0" lang="hu-HU" sz="2400" spc="-1" strike="noStrike">
                <a:solidFill>
                  <a:srgbClr val="00ff00"/>
                </a:solidFill>
                <a:latin typeface="Times New Roman"/>
              </a:rPr>
              <a:t>                         Hatályba lépett: 2006. december 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4221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Country of Origin</a:t>
            </a: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 – Az alapítási ország e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d03d7"/>
                </a:solidFill>
                <a:latin typeface="Arial"/>
              </a:rPr>
              <a:t>Service </a:t>
            </a:r>
            <a:r>
              <a:rPr b="1" lang="en-GB" sz="4400" spc="-1" strike="noStrike">
                <a:solidFill>
                  <a:srgbClr val="ed03d7"/>
                </a:solidFill>
                <a:latin typeface="Arial"/>
              </a:rPr>
              <a:t>Direc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48428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Kivétel a SD hatálya alól</a:t>
            </a: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: magánbiztonsági szolgáltat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1916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9900"/>
                </a:solidFill>
                <a:latin typeface="Arial"/>
              </a:rPr>
              <a:t>2. cikk   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242100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1. This Directive shall apply to services supplied by providers established</a:t>
            </a:r>
            <a:br>
              <a:rPr sz="1800"/>
            </a:b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    in a Member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2. This Directive shall not apply to the following activit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(k) private security services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407664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9900"/>
                </a:solidFill>
                <a:latin typeface="Arial"/>
              </a:rPr>
              <a:t>38. cikk   </a:t>
            </a:r>
            <a:r>
              <a:rPr b="1" i="1" lang="en-GB" sz="1800" spc="-1" strike="noStrike">
                <a:solidFill>
                  <a:srgbClr val="ff9900"/>
                </a:solidFill>
                <a:latin typeface="Arial"/>
              </a:rPr>
              <a:t>Additional harmoni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450864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The Commission shall assess, by 28 December 2010 the poss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of presenting proposals for harmonisation instruments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the following subjec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(b) 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private security services and transport of cash and valuables</a:t>
            </a: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d03d7"/>
                </a:solidFill>
                <a:latin typeface="Arial"/>
              </a:rPr>
              <a:t>Európai jogalkot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1484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Négy alappillé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213372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§</a:t>
            </a: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Európai Alapszerződés (EU Alkotmány –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Treaty</a:t>
            </a: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487044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§</a:t>
            </a: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A nemzeti jogalkotás harmonizáció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39337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§</a:t>
            </a: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Európai Bíróság (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European Court of Justice</a:t>
            </a: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) ítélet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299736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§</a:t>
            </a: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Európai Direktív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d03d7"/>
                </a:solidFill>
                <a:latin typeface="Arial"/>
              </a:rPr>
              <a:t>Magánbiztonsági direktív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484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Szabályozandó kérdé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2133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Milyen tevékenységekre terjedjen ki a szabályozá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3933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Szabályozza-e a szolgáltatás minőségé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285264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Mely kérdésekben szükséges európai, mely kérdésekben nemzeti szabályozá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d03d7"/>
                </a:solidFill>
                <a:latin typeface="Arial"/>
              </a:rPr>
              <a:t>Magánbiztonsági direktív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484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Minimum követelmény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213372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A tevékenység engedélyezése az iparágtól független hatóság által mind a vállalkozások, mind a biztonsági őrök tekinteté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6920" y="4437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A tevékenység hatósági ellenőr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3429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Az előélet ellenőrzése – a büntetett előélet vonatkozásában független hatóság ál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5157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A képzési minimum szabályoz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d03d7"/>
                </a:solidFill>
                <a:latin typeface="Arial"/>
              </a:rPr>
              <a:t>Szabályozottság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476280"/>
          <a:ext cx="8229600" cy="5869080"/>
        </p:xfrm>
        <a:graphic>
          <a:graphicData uri="http://schemas.openxmlformats.org/drawingml/2006/table">
            <a:tbl>
              <a:tblPr/>
              <a:tblGrid>
                <a:gridCol w="2122560"/>
                <a:gridCol w="1941480"/>
                <a:gridCol w="2081160"/>
                <a:gridCol w="208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Orszá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zab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n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T-M-P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ust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Tart. 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elg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M+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enm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Fin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-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Germa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Ire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uxemb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Éret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wed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Hely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/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The Nether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IM-P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U.Kingd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d03d7"/>
                </a:solidFill>
                <a:latin typeface="Arial"/>
              </a:rPr>
              <a:t>Európai mode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26828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00"/>
                </a:solidFill>
                <a:latin typeface="Times New Roman"/>
              </a:rPr>
              <a:t>Madrid - 2004.</a:t>
            </a:r>
            <a:r>
              <a:rPr b="0" lang="hu-HU" sz="4000" spc="-1" strike="noStrike">
                <a:solidFill>
                  <a:srgbClr val="ff9900"/>
                </a:solidFill>
                <a:latin typeface="Arial"/>
              </a:rPr>
              <a:t> október 14-1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d03d7"/>
                </a:solidFill>
                <a:latin typeface="Arial"/>
              </a:rPr>
              <a:t>Négy alappillé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4000" y="2924280"/>
            <a:ext cx="40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9900"/>
                </a:solidFill>
                <a:latin typeface="Times New Roman"/>
              </a:rPr>
              <a:t>Jogi szabályoz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24000" y="378936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9900"/>
                </a:solidFill>
                <a:latin typeface="Times New Roman"/>
              </a:rPr>
              <a:t>Társadalmi párbeszé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4000" y="4581360"/>
            <a:ext cx="3743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9900"/>
                </a:solidFill>
                <a:latin typeface="Times New Roman"/>
              </a:rPr>
              <a:t>Minő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5300640"/>
            <a:ext cx="41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9900"/>
                </a:solidFill>
                <a:latin typeface="Times New Roman"/>
              </a:rPr>
              <a:t>Professzionaliz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3860640"/>
            <a:ext cx="539640" cy="533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76360" y="5300640"/>
            <a:ext cx="542880" cy="507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476360" y="4581360"/>
            <a:ext cx="538200" cy="54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476360" y="2997360"/>
            <a:ext cx="5382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d03d7"/>
                </a:solidFill>
                <a:latin typeface="Arial"/>
              </a:rPr>
              <a:t>Képzés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8360" y="549360"/>
          <a:ext cx="8229600" cy="5842080"/>
        </p:xfrm>
        <a:graphic>
          <a:graphicData uri="http://schemas.openxmlformats.org/drawingml/2006/table">
            <a:tbl>
              <a:tblPr/>
              <a:tblGrid>
                <a:gridCol w="1978200"/>
                <a:gridCol w="2136600"/>
                <a:gridCol w="2033640"/>
                <a:gridCol w="2081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Orszá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Okt-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Vizs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T.képz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ust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Önk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unkáltat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elg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kö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-5év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Közpon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enm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11/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Áll.is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Fin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unkáltat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unkáltat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Germa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4/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Ker-k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Ön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p.Biz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Ire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Kö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Ö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uxemb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Ö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Írásbe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Okt.köz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40+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Okt.közp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wed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97+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odul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Okt.közp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The Nether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Köt-kül.idő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Kö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IM-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U.Kingd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Kö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d03d7"/>
                </a:solidFill>
                <a:latin typeface="Arial"/>
              </a:rPr>
              <a:t>Jogi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79280" y="1700280"/>
            <a:ext cx="6654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00"/>
                </a:solidFill>
                <a:latin typeface="Arial"/>
              </a:rPr>
              <a:t>Jogilag szabályozott tevékeny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952560" cy="907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79640" y="3068640"/>
            <a:ext cx="662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9900"/>
                </a:solidFill>
                <a:latin typeface="Times New Roman"/>
              </a:rPr>
              <a:t>Hatósági engedélyezés és ellenőr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4581360"/>
            <a:ext cx="5158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9900"/>
                </a:solidFill>
                <a:latin typeface="Times New Roman"/>
              </a:rPr>
              <a:t>Jogharmonizáci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952560" cy="909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120960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d03d7"/>
                </a:solidFill>
                <a:latin typeface="Arial"/>
              </a:rPr>
              <a:t>Európai jogalkot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8135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00"/>
                </a:solidFill>
                <a:latin typeface="Arial"/>
              </a:rPr>
              <a:t>Európai Alapszerződés (Alkotmány –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Treaty</a:t>
            </a:r>
            <a:r>
              <a:rPr b="1" lang="hu-HU" sz="28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2349360"/>
            <a:ext cx="7489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00"/>
                </a:solidFill>
                <a:latin typeface="Arial"/>
              </a:rPr>
              <a:t>Európai közös szabályozás - direktív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3141720"/>
            <a:ext cx="4464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00"/>
                </a:solidFill>
                <a:latin typeface="Arial"/>
              </a:rPr>
              <a:t>A nemzeti szabályo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3933720"/>
            <a:ext cx="7885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ff00"/>
                </a:solidFill>
                <a:latin typeface="Arial"/>
              </a:rPr>
              <a:t>Nem szabályozhat olyan kérdéseket, amelyek az európai közös szabályozás alá es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4941720"/>
            <a:ext cx="76327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ff00"/>
                </a:solidFill>
                <a:latin typeface="Arial"/>
              </a:rPr>
              <a:t>A nemzeti szabályozás nem lehet ellentétes az Alapszerződéss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d03d7"/>
                </a:solidFill>
                <a:latin typeface="Arial"/>
              </a:rPr>
              <a:t>Az esetjog (</a:t>
            </a:r>
            <a:r>
              <a:rPr b="1" lang="en-GB" sz="4400" spc="-1" strike="noStrike">
                <a:solidFill>
                  <a:srgbClr val="ed03d7"/>
                </a:solidFill>
                <a:latin typeface="Arial"/>
              </a:rPr>
              <a:t>case law</a:t>
            </a:r>
            <a:r>
              <a:rPr b="1" lang="hu-HU" sz="4400" spc="-1" strike="noStrike">
                <a:solidFill>
                  <a:srgbClr val="ed03d7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8135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00"/>
                </a:solidFill>
                <a:latin typeface="Arial"/>
              </a:rPr>
              <a:t>Az Európa Bíróság (ECJ) ítélet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1442880" cy="1446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76720" y="27795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C-355/98. 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27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C-114/97. Spanyolorsz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36432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C-171/02. Portugá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4148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C-189/03. Hollan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5156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C-465/05. Olaszorsz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2115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C-238/99. Olaszorsz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46512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Times New Roman"/>
              </a:rPr>
              <a:t>C-514/03 Spanyolorsz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d03d7"/>
                </a:solidFill>
                <a:latin typeface="Arial"/>
              </a:rPr>
              <a:t>Európai  Alkotmány</a:t>
            </a:r>
            <a:br>
              <a:rPr sz="4400"/>
            </a:br>
            <a:r>
              <a:rPr b="1" lang="en-GB" sz="4400" spc="-1" strike="noStrike">
                <a:solidFill>
                  <a:srgbClr val="ed03d7"/>
                </a:solidFill>
                <a:latin typeface="Arial"/>
              </a:rPr>
              <a:t>Treat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781440" y="1628640"/>
            <a:ext cx="1541520" cy="14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95640" y="350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9900"/>
                </a:solidFill>
                <a:latin typeface="Times New Roman"/>
              </a:rPr>
              <a:t>Alapvető gazdasági jog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851280" y="4438800"/>
            <a:ext cx="15429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ed03d7"/>
                </a:solidFill>
                <a:latin typeface="Arial"/>
              </a:rPr>
              <a:t>A munkaerő szabad vándorlás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1338120" cy="12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195640" y="1413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9900"/>
                </a:solidFill>
                <a:latin typeface="Times New Roman"/>
              </a:rPr>
              <a:t>39. ci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24000" y="198900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Arial"/>
              </a:rPr>
              <a:t>(1) A Közösségen belül biztosítani kell a munkavállalók szabad mozgásá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306864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00"/>
                </a:solidFill>
                <a:latin typeface="Arial"/>
              </a:rPr>
              <a:t>(2) A munkavállalók szabad mozgása magában foglalja az állampolgárság alapján történő minden megkülönböztetés megszüntetését a tagállamok munkavállalói között a foglalkoztatás, a javadalmazás, valamint az egyéb munka- és foglalkoztatási feltételek tekintetéb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d03d7"/>
                </a:solidFill>
                <a:latin typeface="Arial"/>
              </a:rPr>
              <a:t>A letelepedési jo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91628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9900"/>
                </a:solidFill>
                <a:latin typeface="Arial"/>
              </a:rPr>
              <a:t>Az alábbiakban megállapított rendelkezéseknek megfelelően tilos a valamely tagállam állampolgárainak egy másik tagállam területén történő szabad letelepedésére vonatkozó minden korlátozás. Ezt a rendelkezést azokra a korlátozásokra is alkalmazni kell, amelyek képviseletnek, fióktelepnek vagy leányvállalatnak egy tagállam valamely tagállamban letelepedett állampolgára által történő alapítására vonat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119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9900"/>
                </a:solidFill>
                <a:latin typeface="Times New Roman"/>
              </a:rPr>
              <a:t>43. ci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3860640"/>
            <a:ext cx="88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9900"/>
                </a:solidFill>
                <a:latin typeface="Arial"/>
              </a:rPr>
              <a:t>A szabad letelepedés magában foglalja a jogot gazdasági tevékenység önálló vállalkozóként történő megkezdésére és folytatására, vállalkozások, így különösen a 48. cikk második bekezdése szerinti társaságok alapítására és irányítására, a letelepedés országának joga által a saját állampolgáraira előírt feltételek szerint, figyelemmel a tőkére vonatkozó fejezet rendelkezéseire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d03d7"/>
                </a:solidFill>
                <a:latin typeface="Arial"/>
              </a:rPr>
              <a:t>Korlát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6381720"/>
            <a:ext cx="86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Személy- és vagyonvédelem alapjai-2007 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1332000" cy="1260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63640" y="981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9900"/>
                </a:solidFill>
                <a:latin typeface="Times New Roman"/>
              </a:rPr>
              <a:t>45. ci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342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9900"/>
                </a:solidFill>
                <a:latin typeface="Times New Roman"/>
              </a:rPr>
              <a:t>46. ci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63640" y="1484280"/>
            <a:ext cx="73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9900"/>
                </a:solidFill>
                <a:latin typeface="Arial"/>
              </a:rPr>
              <a:t>Valamely tagállamban a közhatalom gyakorlásához tartósan vagy időlegesen kapcsolódó tevékenységekre e fejezet rendelkezései az adott tagállam vonatkozásában nem alkalmazható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400536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9900"/>
                </a:solidFill>
                <a:latin typeface="Arial"/>
              </a:rPr>
              <a:t>(1) E fejezet rendelkezései és az azok alapján hozott intézkedések nem érintik azoknak a törvényi, rendeleti és közigazgatási rendelkezéseknek az alkalmazhatóságát, amelyek közrendi, közbiztonsági vagy közegészségügyi okokból különleges elbánást írnak elő a külföldi állampolgárokra néz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270828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d03d7"/>
                </a:solidFill>
                <a:latin typeface="Times New Roman"/>
              </a:rPr>
              <a:t>Értelmezve:</a:t>
            </a: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 Ha a tevékenység hatósági tevékenység vagy azzal közvetlenül összefü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20:04:44Z</dcterms:created>
  <dc:creator>user</dc:creator>
  <dc:description/>
  <dc:language>en-US</dc:language>
  <cp:lastModifiedBy>user</cp:lastModifiedBy>
  <dcterms:modified xsi:type="dcterms:W3CDTF">2007-02-03T16:17:41Z</dcterms:modified>
  <cp:revision>5</cp:revision>
  <dc:subject/>
  <dc:title>Jogi szabályozá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